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FF3-B864-4030-950B-5D88A85D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2C6-F920-46B3-BA58-B3F6A31B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C65-EAFC-4B7A-A24D-E4CB44AA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6CC-6272-4EBF-975E-07D5EA23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490-B1D8-4D33-B3A5-D4F548EC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B63-2356-438D-9A6E-7DCC1DC2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956-5E26-4767-8F10-27425DD2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BC5-BE3E-4544-AFC5-ABC57A5F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F81-F7DB-431E-A977-5FE76CA7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85E-E393-4CA2-9D12-163AE0E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81F-AA84-4AAF-86BD-C42447C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BC2-6502-44F6-95D4-3B6E1E8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8440" y="6244920"/>
            <a:ext cx="6172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3280" y="6244920"/>
            <a:ext cx="533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5D4A-EBFF-49B6-ABE8-10DBBF31838F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8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apsulation for Practical Simplification Proced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1160" y="3733920"/>
            <a:ext cx="678168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lga Shumsky Matlin &amp; William McCu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thematics and Computer Science Divis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gonne National Laborato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matlin,mccune}@mcs.anl.gov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Origi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st-order resolution and paramodulation theorem prover OTT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dependent data structures and algorithms, performance concer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metimes impossible to use the simplest algorithm to solve a particular probl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es for incorporating newly derived clauses into the main data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rm rewriting and demodulation are at the core of the incorporation procedur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lin &amp; McCune --- Encapsulation for Practical Simplification Proced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81A-1329-4B3C-A666-CB35907882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L2-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imple Solution: Direct Incorporatio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2200" y="525780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Unincorporated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lauses Q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38960" y="1295280"/>
            <a:ext cx="3248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if (C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´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≠ TRUE)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find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i  </a:t>
            </a:r>
            <a:r>
              <a:rPr b="0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 S, rewritable by C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´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64800" y="2057400"/>
            <a:ext cx="3399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to show termination: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nqueue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´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= simplify D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by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 C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´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066680"/>
            <a:ext cx="2735280" cy="1702080"/>
          </a:xfrm>
          <a:custGeom>
            <a:avLst/>
            <a:gdLst/>
            <a:ahLst/>
            <a:rect l="l" t="t" r="r" b="b"/>
            <a:pathLst>
              <a:path w="1723" h="1072">
                <a:moveTo>
                  <a:pt x="722" y="101"/>
                </a:moveTo>
                <a:cubicBezTo>
                  <a:pt x="682" y="59"/>
                  <a:pt x="707" y="77"/>
                  <a:pt x="640" y="55"/>
                </a:cubicBezTo>
                <a:cubicBezTo>
                  <a:pt x="631" y="52"/>
                  <a:pt x="612" y="46"/>
                  <a:pt x="612" y="46"/>
                </a:cubicBezTo>
                <a:cubicBezTo>
                  <a:pt x="578" y="23"/>
                  <a:pt x="543" y="19"/>
                  <a:pt x="503" y="9"/>
                </a:cubicBezTo>
                <a:cubicBezTo>
                  <a:pt x="457" y="18"/>
                  <a:pt x="421" y="37"/>
                  <a:pt x="375" y="46"/>
                </a:cubicBezTo>
                <a:cubicBezTo>
                  <a:pt x="337" y="71"/>
                  <a:pt x="300" y="90"/>
                  <a:pt x="256" y="101"/>
                </a:cubicBezTo>
                <a:cubicBezTo>
                  <a:pt x="214" y="128"/>
                  <a:pt x="174" y="150"/>
                  <a:pt x="137" y="183"/>
                </a:cubicBezTo>
                <a:cubicBezTo>
                  <a:pt x="121" y="197"/>
                  <a:pt x="91" y="229"/>
                  <a:pt x="91" y="229"/>
                </a:cubicBezTo>
                <a:cubicBezTo>
                  <a:pt x="71" y="308"/>
                  <a:pt x="78" y="392"/>
                  <a:pt x="27" y="457"/>
                </a:cubicBezTo>
                <a:cubicBezTo>
                  <a:pt x="24" y="472"/>
                  <a:pt x="22" y="488"/>
                  <a:pt x="18" y="503"/>
                </a:cubicBezTo>
                <a:cubicBezTo>
                  <a:pt x="13" y="522"/>
                  <a:pt x="0" y="558"/>
                  <a:pt x="0" y="558"/>
                </a:cubicBezTo>
                <a:cubicBezTo>
                  <a:pt x="6" y="591"/>
                  <a:pt x="5" y="627"/>
                  <a:pt x="18" y="658"/>
                </a:cubicBezTo>
                <a:cubicBezTo>
                  <a:pt x="24" y="672"/>
                  <a:pt x="43" y="676"/>
                  <a:pt x="55" y="686"/>
                </a:cubicBezTo>
                <a:cubicBezTo>
                  <a:pt x="68" y="697"/>
                  <a:pt x="76" y="713"/>
                  <a:pt x="91" y="722"/>
                </a:cubicBezTo>
                <a:cubicBezTo>
                  <a:pt x="156" y="761"/>
                  <a:pt x="233" y="752"/>
                  <a:pt x="292" y="805"/>
                </a:cubicBezTo>
                <a:cubicBezTo>
                  <a:pt x="373" y="877"/>
                  <a:pt x="406" y="969"/>
                  <a:pt x="521" y="997"/>
                </a:cubicBezTo>
                <a:cubicBezTo>
                  <a:pt x="533" y="991"/>
                  <a:pt x="544" y="983"/>
                  <a:pt x="557" y="978"/>
                </a:cubicBezTo>
                <a:cubicBezTo>
                  <a:pt x="584" y="968"/>
                  <a:pt x="640" y="951"/>
                  <a:pt x="640" y="951"/>
                </a:cubicBezTo>
                <a:cubicBezTo>
                  <a:pt x="686" y="964"/>
                  <a:pt x="723" y="983"/>
                  <a:pt x="768" y="997"/>
                </a:cubicBezTo>
                <a:cubicBezTo>
                  <a:pt x="827" y="1036"/>
                  <a:pt x="893" y="1054"/>
                  <a:pt x="960" y="1070"/>
                </a:cubicBezTo>
                <a:cubicBezTo>
                  <a:pt x="1063" y="1047"/>
                  <a:pt x="1022" y="1072"/>
                  <a:pt x="1088" y="1006"/>
                </a:cubicBezTo>
                <a:cubicBezTo>
                  <a:pt x="1093" y="1001"/>
                  <a:pt x="1152" y="988"/>
                  <a:pt x="1152" y="988"/>
                </a:cubicBezTo>
                <a:cubicBezTo>
                  <a:pt x="1250" y="963"/>
                  <a:pt x="1258" y="967"/>
                  <a:pt x="1399" y="960"/>
                </a:cubicBezTo>
                <a:cubicBezTo>
                  <a:pt x="1442" y="850"/>
                  <a:pt x="1526" y="745"/>
                  <a:pt x="1627" y="686"/>
                </a:cubicBezTo>
                <a:cubicBezTo>
                  <a:pt x="1649" y="641"/>
                  <a:pt x="1674" y="634"/>
                  <a:pt x="1700" y="594"/>
                </a:cubicBezTo>
                <a:cubicBezTo>
                  <a:pt x="1703" y="582"/>
                  <a:pt x="1705" y="570"/>
                  <a:pt x="1709" y="558"/>
                </a:cubicBezTo>
                <a:cubicBezTo>
                  <a:pt x="1712" y="548"/>
                  <a:pt x="1723" y="539"/>
                  <a:pt x="1719" y="530"/>
                </a:cubicBezTo>
                <a:cubicBezTo>
                  <a:pt x="1709" y="506"/>
                  <a:pt x="1688" y="487"/>
                  <a:pt x="1673" y="466"/>
                </a:cubicBezTo>
                <a:cubicBezTo>
                  <a:pt x="1638" y="417"/>
                  <a:pt x="1604" y="377"/>
                  <a:pt x="1545" y="357"/>
                </a:cubicBezTo>
                <a:cubicBezTo>
                  <a:pt x="1516" y="326"/>
                  <a:pt x="1435" y="293"/>
                  <a:pt x="1435" y="293"/>
                </a:cubicBezTo>
                <a:cubicBezTo>
                  <a:pt x="1412" y="269"/>
                  <a:pt x="1386" y="253"/>
                  <a:pt x="1362" y="229"/>
                </a:cubicBezTo>
                <a:cubicBezTo>
                  <a:pt x="1352" y="199"/>
                  <a:pt x="1353" y="163"/>
                  <a:pt x="1335" y="137"/>
                </a:cubicBezTo>
                <a:cubicBezTo>
                  <a:pt x="1274" y="50"/>
                  <a:pt x="1169" y="12"/>
                  <a:pt x="1069" y="0"/>
                </a:cubicBezTo>
                <a:cubicBezTo>
                  <a:pt x="955" y="7"/>
                  <a:pt x="903" y="2"/>
                  <a:pt x="813" y="55"/>
                </a:cubicBezTo>
                <a:cubicBezTo>
                  <a:pt x="792" y="86"/>
                  <a:pt x="785" y="98"/>
                  <a:pt x="749" y="110"/>
                </a:cubicBezTo>
                <a:cubicBezTo>
                  <a:pt x="737" y="107"/>
                  <a:pt x="724" y="107"/>
                  <a:pt x="713" y="101"/>
                </a:cubicBezTo>
                <a:cubicBezTo>
                  <a:pt x="705" y="97"/>
                  <a:pt x="686" y="82"/>
                  <a:pt x="695" y="82"/>
                </a:cubicBezTo>
                <a:cubicBezTo>
                  <a:pt x="706" y="82"/>
                  <a:pt x="713" y="95"/>
                  <a:pt x="722" y="101"/>
                </a:cubicBezTo>
                <a:close/>
              </a:path>
            </a:pathLst>
          </a:custGeom>
          <a:noFill/>
          <a:ln w="255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3760" y="1371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atabase 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54100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4100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5410080"/>
            <a:ext cx="60984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4100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4100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3809880"/>
            <a:ext cx="236196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´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simplify 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by 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44792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19810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37160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167652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442200" y="2895120"/>
            <a:ext cx="2018520" cy="1405080"/>
            <a:chOff x="6442200" y="2895120"/>
            <a:chExt cx="2018520" cy="1405080"/>
          </a:xfrm>
        </p:grpSpPr>
        <p:sp>
          <p:nvSpPr>
            <p:cNvPr id="62" name=""/>
            <p:cNvSpPr/>
            <p:nvPr/>
          </p:nvSpPr>
          <p:spPr>
            <a:xfrm>
              <a:off x="6442200" y="3657600"/>
              <a:ext cx="201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back subsumption</a:t>
              </a: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and rewriting</a:t>
              </a: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6857640" y="2895120"/>
              <a:ext cx="533160" cy="76212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886200" y="2057400"/>
            <a:ext cx="4714200" cy="3157200"/>
            <a:chOff x="3886200" y="2057400"/>
            <a:chExt cx="4714200" cy="3157200"/>
          </a:xfrm>
        </p:grpSpPr>
        <p:sp>
          <p:nvSpPr>
            <p:cNvPr id="65" name=""/>
            <p:cNvSpPr/>
            <p:nvPr/>
          </p:nvSpPr>
          <p:spPr>
            <a:xfrm>
              <a:off x="6302880" y="4572000"/>
              <a:ext cx="229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forward subsumption</a:t>
              </a: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and rewriting</a:t>
              </a: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886200" y="2057400"/>
              <a:ext cx="2362320" cy="266688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lin &amp; McCune --- Encapsulation for Practical Simplification Proced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55B-6B22-4EBC-9714-779A0751C1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L2-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20231E-006 L -6.66667E-006 -0.23306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667 0.57711 E">
                                      <p:cBhvr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667 0.49943 E">
                                      <p:cBhvr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58821 E">
                                      <p:cBhvr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7 -0.31075 E">
                                      <p:cBhvr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mbo Incorp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143000"/>
            <a:ext cx="2735280" cy="1701720"/>
          </a:xfrm>
          <a:custGeom>
            <a:avLst/>
            <a:gdLst/>
            <a:ahLst/>
            <a:rect l="l" t="t" r="r" b="b"/>
            <a:pathLst>
              <a:path w="1723" h="1072">
                <a:moveTo>
                  <a:pt x="722" y="101"/>
                </a:moveTo>
                <a:cubicBezTo>
                  <a:pt x="682" y="59"/>
                  <a:pt x="707" y="77"/>
                  <a:pt x="640" y="55"/>
                </a:cubicBezTo>
                <a:cubicBezTo>
                  <a:pt x="631" y="52"/>
                  <a:pt x="612" y="46"/>
                  <a:pt x="612" y="46"/>
                </a:cubicBezTo>
                <a:cubicBezTo>
                  <a:pt x="578" y="23"/>
                  <a:pt x="543" y="19"/>
                  <a:pt x="503" y="9"/>
                </a:cubicBezTo>
                <a:cubicBezTo>
                  <a:pt x="457" y="18"/>
                  <a:pt x="421" y="37"/>
                  <a:pt x="375" y="46"/>
                </a:cubicBezTo>
                <a:cubicBezTo>
                  <a:pt x="337" y="71"/>
                  <a:pt x="300" y="90"/>
                  <a:pt x="256" y="101"/>
                </a:cubicBezTo>
                <a:cubicBezTo>
                  <a:pt x="214" y="128"/>
                  <a:pt x="174" y="150"/>
                  <a:pt x="137" y="183"/>
                </a:cubicBezTo>
                <a:cubicBezTo>
                  <a:pt x="121" y="197"/>
                  <a:pt x="91" y="229"/>
                  <a:pt x="91" y="229"/>
                </a:cubicBezTo>
                <a:cubicBezTo>
                  <a:pt x="71" y="308"/>
                  <a:pt x="78" y="392"/>
                  <a:pt x="27" y="457"/>
                </a:cubicBezTo>
                <a:cubicBezTo>
                  <a:pt x="24" y="472"/>
                  <a:pt x="22" y="488"/>
                  <a:pt x="18" y="503"/>
                </a:cubicBezTo>
                <a:cubicBezTo>
                  <a:pt x="13" y="522"/>
                  <a:pt x="0" y="558"/>
                  <a:pt x="0" y="558"/>
                </a:cubicBezTo>
                <a:cubicBezTo>
                  <a:pt x="6" y="591"/>
                  <a:pt x="5" y="627"/>
                  <a:pt x="18" y="658"/>
                </a:cubicBezTo>
                <a:cubicBezTo>
                  <a:pt x="24" y="672"/>
                  <a:pt x="43" y="676"/>
                  <a:pt x="55" y="686"/>
                </a:cubicBezTo>
                <a:cubicBezTo>
                  <a:pt x="68" y="697"/>
                  <a:pt x="76" y="713"/>
                  <a:pt x="91" y="722"/>
                </a:cubicBezTo>
                <a:cubicBezTo>
                  <a:pt x="156" y="761"/>
                  <a:pt x="233" y="752"/>
                  <a:pt x="292" y="805"/>
                </a:cubicBezTo>
                <a:cubicBezTo>
                  <a:pt x="373" y="877"/>
                  <a:pt x="406" y="969"/>
                  <a:pt x="521" y="997"/>
                </a:cubicBezTo>
                <a:cubicBezTo>
                  <a:pt x="533" y="991"/>
                  <a:pt x="544" y="983"/>
                  <a:pt x="557" y="978"/>
                </a:cubicBezTo>
                <a:cubicBezTo>
                  <a:pt x="584" y="968"/>
                  <a:pt x="640" y="951"/>
                  <a:pt x="640" y="951"/>
                </a:cubicBezTo>
                <a:cubicBezTo>
                  <a:pt x="686" y="964"/>
                  <a:pt x="723" y="983"/>
                  <a:pt x="768" y="997"/>
                </a:cubicBezTo>
                <a:cubicBezTo>
                  <a:pt x="827" y="1036"/>
                  <a:pt x="893" y="1054"/>
                  <a:pt x="960" y="1070"/>
                </a:cubicBezTo>
                <a:cubicBezTo>
                  <a:pt x="1063" y="1047"/>
                  <a:pt x="1022" y="1072"/>
                  <a:pt x="1088" y="1006"/>
                </a:cubicBezTo>
                <a:cubicBezTo>
                  <a:pt x="1093" y="1001"/>
                  <a:pt x="1152" y="988"/>
                  <a:pt x="1152" y="988"/>
                </a:cubicBezTo>
                <a:cubicBezTo>
                  <a:pt x="1250" y="963"/>
                  <a:pt x="1258" y="967"/>
                  <a:pt x="1399" y="960"/>
                </a:cubicBezTo>
                <a:cubicBezTo>
                  <a:pt x="1442" y="850"/>
                  <a:pt x="1526" y="745"/>
                  <a:pt x="1627" y="686"/>
                </a:cubicBezTo>
                <a:cubicBezTo>
                  <a:pt x="1649" y="641"/>
                  <a:pt x="1674" y="634"/>
                  <a:pt x="1700" y="594"/>
                </a:cubicBezTo>
                <a:cubicBezTo>
                  <a:pt x="1703" y="582"/>
                  <a:pt x="1705" y="570"/>
                  <a:pt x="1709" y="558"/>
                </a:cubicBezTo>
                <a:cubicBezTo>
                  <a:pt x="1712" y="548"/>
                  <a:pt x="1723" y="539"/>
                  <a:pt x="1719" y="530"/>
                </a:cubicBezTo>
                <a:cubicBezTo>
                  <a:pt x="1709" y="506"/>
                  <a:pt x="1688" y="487"/>
                  <a:pt x="1673" y="466"/>
                </a:cubicBezTo>
                <a:cubicBezTo>
                  <a:pt x="1638" y="417"/>
                  <a:pt x="1604" y="377"/>
                  <a:pt x="1545" y="357"/>
                </a:cubicBezTo>
                <a:cubicBezTo>
                  <a:pt x="1516" y="326"/>
                  <a:pt x="1435" y="293"/>
                  <a:pt x="1435" y="293"/>
                </a:cubicBezTo>
                <a:cubicBezTo>
                  <a:pt x="1412" y="269"/>
                  <a:pt x="1386" y="253"/>
                  <a:pt x="1362" y="229"/>
                </a:cubicBezTo>
                <a:cubicBezTo>
                  <a:pt x="1352" y="199"/>
                  <a:pt x="1353" y="163"/>
                  <a:pt x="1335" y="137"/>
                </a:cubicBezTo>
                <a:cubicBezTo>
                  <a:pt x="1274" y="50"/>
                  <a:pt x="1169" y="12"/>
                  <a:pt x="1069" y="0"/>
                </a:cubicBezTo>
                <a:cubicBezTo>
                  <a:pt x="955" y="7"/>
                  <a:pt x="903" y="2"/>
                  <a:pt x="813" y="55"/>
                </a:cubicBezTo>
                <a:cubicBezTo>
                  <a:pt x="792" y="86"/>
                  <a:pt x="785" y="98"/>
                  <a:pt x="749" y="110"/>
                </a:cubicBezTo>
                <a:cubicBezTo>
                  <a:pt x="737" y="107"/>
                  <a:pt x="724" y="107"/>
                  <a:pt x="713" y="101"/>
                </a:cubicBezTo>
                <a:cubicBezTo>
                  <a:pt x="705" y="97"/>
                  <a:pt x="686" y="82"/>
                  <a:pt x="695" y="82"/>
                </a:cubicBezTo>
                <a:cubicBezTo>
                  <a:pt x="706" y="82"/>
                  <a:pt x="713" y="95"/>
                  <a:pt x="722" y="101"/>
                </a:cubicBezTo>
                <a:close/>
              </a:path>
            </a:pathLst>
          </a:custGeom>
          <a:noFill/>
          <a:ln w="255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760" y="144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atabase 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48640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548640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5486400"/>
            <a:ext cx="60984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548640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48640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15238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205740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144792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2200" y="54100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Unincorporated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lauses Q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3760" y="39625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imbo List L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40384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40384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038480"/>
            <a:ext cx="60984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0384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0384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7680" y="4800600"/>
            <a:ext cx="270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´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= simplify C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by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 (S+L)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4038480"/>
            <a:ext cx="60984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40384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4038480"/>
            <a:ext cx="609480" cy="457200"/>
          </a:xfrm>
          <a:prstGeom prst="rect">
            <a:avLst/>
          </a:prstGeom>
          <a:solidFill>
            <a:srgbClr val="fffe7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3320" y="1828800"/>
            <a:ext cx="312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find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i  </a:t>
            </a:r>
            <a:r>
              <a:rPr b="0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 S, rewritable by C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´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70560" y="2209680"/>
            <a:ext cx="313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´  = simplify D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i 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by  (S-D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+L)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lin &amp; McCune --- Encapsulation for Practical Simplification Proced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BE4-CBD2-4021-996E-CEA1FACE7D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L2-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4.79769E-006 L -6.66667E-006 -0.21087 E">
                                      <p:cBhvr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87 E">
                                      <p:cBhvr>
                                        <p:cTn id="9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87 E">
                                      <p:cBhvr>
                                        <p:cTn id="10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87 E">
                                      <p:cBhvr>
                                        <p:cTn id="11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1087 E">
                                      <p:cBhvr>
                                        <p:cTn id="12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34 0.36624 E">
                                      <p:cBhvr>
                                        <p:cTn id="14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33 0.28855 E">
                                      <p:cBhvr>
                                        <p:cTn id="14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1667 0.37734 E">
                                      <p:cBhvr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834 -0.35514 E">
                                      <p:cBhvr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rification Go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rmination of both procedur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n practice, implementation of the simplification function (term rewriting) contains an artificial stopping condition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n practice, termination of the simplification procedure is assumed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base is irreducib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o element is rewritable by any other element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cedures produce equivalent databa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rder of rewriting is different, does not produce canonical form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o guarantee that database will contain the same elements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how equivalence with respect to evaluation, sufficient to show that each procedure preserves evaluation of the conjunction of clauses in the original database and queue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lin &amp; McCune --- Encapsulation for Practical Simplification Proced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4A1-F98B-46F0-B90B-513FD026CE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L2-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ey Observ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ification is via term rewri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writing function terminates, rewrites as much as possible, simplifies, is sound, other details unimportant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ails of the evaluation function unimporta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capsulate simplification and evaluation func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rmination of direct incorporation depends on slight modification of the procedu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asure function based on a special count function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cons (+ 1 (count q) (count s))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+ 1 (count q)))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erty for irreducibility proof for limbo incorpor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,B </a:t>
            </a:r>
            <a:r>
              <a:rPr b="1" i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L, pos(A) &lt; pos(B)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 does not rewrite B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lin &amp; McCune --- Encapsulation for Practical Simplification Proced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B8D-6791-46E2-B47A-6CBF74ACDB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L2-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lution Statist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 constrained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mplify, ceval, scount, true-symbolp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8 properties of constrained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 functions to model the procedures and correctness properties, including auxiliary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89 theorems proved, 28 hints require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 main irreducibility, 2 main soundness theorem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lin &amp; McCune --- Encapsulation for Practical Simplification Proced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9B4-F615-453D-8778-87CC09A50A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L2-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VY project (ACL2 Case Studi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Verification of the same software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VY checked soundness of OTTER proof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rrors in incorporation procedures could lead OTTER to miss some or all proof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ifficulties in formalization of the evaluation function encouraged the use of encapsulation in this project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. L. Ruiz Reina, J. A. Alonso, M. J. Hidalgo, and F. J. Mar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í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.  Formal proofs about rewriting using ACL2. 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Annals of Mathematics and Artificial Intellig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36(3):239--262, 2002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ormalization of basic reduction and simplification procedures and their properties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ur project takes both for granted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lin &amp; McCune --- Encapsulation for Practical Simplification Proced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157-E89E-4B49-9BEF-7F6210BF7B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L2-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20:01:10Z</dcterms:created>
  <dc:creator>Olya</dc:creator>
  <dc:description/>
  <dc:language>en-US</dc:language>
  <cp:lastModifiedBy>Olya</cp:lastModifiedBy>
  <dcterms:modified xsi:type="dcterms:W3CDTF">2003-07-07T17:07:14Z</dcterms:modified>
  <cp:revision>7</cp:revision>
  <dc:subject/>
  <dc:title>Encapsulation for Practical Simplification Procedures</dc:title>
</cp:coreProperties>
</file>